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6963027F-3602-4C47-BBD6-A5BDAD129F1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E65C4FB-590E-428D-9F6C-52D79ADB62B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C1FF-8F3C-4C69-8FAA-3973B9FD4632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FF77-460F-4BA7-88BE-A48F4F8F324C}" type="slidenum">
              <a:rPr b="0" lang="fr-FR" sz="700" spc="-1" strike="noStrike">
                <a:solidFill>
                  <a:srgbClr val="002395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CA3D-9AAF-437D-A5B9-F0E9F8124675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9F6-A0DE-4887-96F3-E7EE3E6316B7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7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ledefrance.paps.sante.fr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www.ars.sante.fr/le-plan-pour-renforcer-lacces-territorial-aux-soins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6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8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28036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-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éploiement d'un projet de télé-expertise et téléconsultation entre une vingtaine d’EHPAD et les médecins experts de l’Hôpital de la Porte Verte et du CH de Versa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omaines concernés : Plaies, cicatrisation et escarres – Psychogériatrie, troubles du comportement en EHPAD – Prise de décision dans des situations complex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Déploiement de la Télémédecine (dermatologie) pour les patients détenus (Bois d'Arcy) en collaboration entre le CH de Versailles et CH d’Argenteu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71200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ire émerger les territoires digitaux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Mise en place du déploiement du dispositif e-Parcours avec en support Terr-eSan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2 territoires du 78 retenus dans le cadre de l'AAP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u « Grand Versailles » -&gt; Réunion de lancement le 5 avril 2018, COSTRAT le 25 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e « St Germain Boucles de Seine » -&gt; Réunion de lancement en décembre 2017, 2ème réunion le 5 avril 2018, COSTRAT le 17 mai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 2" descr="Capture d’écran"/>
          <p:cNvPicPr/>
          <p:nvPr/>
        </p:nvPicPr>
        <p:blipFill>
          <a:blip r:embed="rId1"/>
          <a:stretch/>
        </p:blipFill>
        <p:spPr>
          <a:xfrm>
            <a:off x="2484360" y="4365720"/>
            <a:ext cx="40100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3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Favoriser une meilleure organisation des professions de santé pour assurer une présence soignante</a:t>
            </a:r>
            <a:br>
              <a:rPr sz="2000"/>
            </a:b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pérenne et contin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99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enir le développement des maisons de santé pluriprofessionnelles, des centres de santé et de tous les modes d’exercice coordo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antir une réponse aux demandes de soins non programmées aux heures d’ouverture des cabinets en s’appuyant sur les initiatives profess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un guichet unique d’information et d’orientation pour l’exercice des professionnel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mplifier la prise en charge des patients en situation complexe en faisant converger financièrement les dispositifs d’appui aux parcours complexes selon les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030560" cy="151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outenir le développement des maisons de santé pluriprofessionnelles (MSP), des centres de santé (CDS) et de tous les modes d’exercice coordonné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280" y="1196640"/>
            <a:ext cx="4824360" cy="532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8 MSP ouvert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en cours de réalisation en 2018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7 projets en réflexion / 1 projet de création de CDS (2019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MSP ont bénéficié en 2017 des nouveaux modes de rémunération pour la coordination et le travail en équipe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3 cabinets de groupe financés (Protocole ARS-URPS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2 projets de Communauté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rofessionnelles Territoriale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de Santé (CPTS) en préparation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8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Image 6" descr="https://www.13commeune.fr/sites/default/files/msp_fonctionnement.jpg"/>
          <p:cNvPicPr/>
          <p:nvPr/>
        </p:nvPicPr>
        <p:blipFill>
          <a:blip r:embed="rId1"/>
          <a:stretch/>
        </p:blipFill>
        <p:spPr>
          <a:xfrm>
            <a:off x="250920" y="3068640"/>
            <a:ext cx="6264360" cy="32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35164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mplifier la prise en charge des patients en situation complex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vergence des dispositifs d’appui à la coordination des territoires 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Expérimentation PTA Odyssée sur un territoire de 138 communes (dans le 78 et 95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Accompagner la mise en œuvre de la fusion des réseaux de santé du Nord Yvelines « GRYN » réunissant les 4 anciens réseaux EMILE, RCYN, RACYNES et REGELIB7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771640" y="3246480"/>
            <a:ext cx="127656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8163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Garantir une réponse aux demandes de soins non programmées aux heures d’ouverture des cabinet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guichet unique d’information et d’orientation pour l’exercice des professionnels de santé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11280" y="1197000"/>
            <a:ext cx="44751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lages de soins non programmées dans les MSP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"SOS Premiers Soins” (clinique Saint-Louis à Poissy) : mise en place de consultations non programmées par une équipe de médecins urgentistes et infirmièr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Plusieurs dispositifs continuent à coexister 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e PAPS alimenté depuis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a Permanence locale mensuelle  d’Aide à l’Installation associant URPS médecins, CPAM, CDOM et 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7, 35 médecins reçus à cette permanence se sont installés dans les Yvelines, dont 18 médecins généralis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Image 6" descr="PA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764320"/>
            <a:ext cx="4968720" cy="5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32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4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Une nouvelle méthode : faire confiance aux acteurs des territoires pour construire des projets et innover </a:t>
            </a:r>
            <a:br>
              <a:rPr sz="2800"/>
            </a:br>
            <a:br>
              <a:rPr sz="2800"/>
            </a:br>
            <a:r>
              <a:rPr b="1" i="1" lang="fr-FR" sz="28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600" y="162864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construire un projet d’animation et d’aménagement du territoire par les professionnels de santé, les usagers, les institutions et les élus des terri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un cadre commun permettant aux professionnels de santé d’expérimenter de nouvelle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régulièrement la mise en place des différentes actions terri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uyer les ARS dans l’accompagnement des projets de terri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4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nouvelle méthode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br>
              <a:rPr sz="2400"/>
            </a:b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-construire un projet d’animation et d’aménagement du territoire par les professionnels de santé, les usagers, les institutions et les élus des territoire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cadre commun permettant aux professionnels de santé d’expérimenter de nouvelles organis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280" y="1125000"/>
            <a:ext cx="504036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'animation territoriale sur l'offre de soins avec l'Assurance Maladie, avec les services de la Préfecture, avec le Conseil Départemental, avec les Maires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ccord conventionnel interprofessionnel (ACI) pour les MSP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SDAASP (Schéma départemental de l'amélioration de l'accessibilité des services au public)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ppel à projets du CD sur la politique de soutien à l'offre de santé.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es consultations avancées Ville-Hôpital (libéraux et hospitaliers)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llaboration entre les praticiens de l’HPOP (MG et spécialistes) et la commune de Magny-Les-Hameaux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nsultations avancées de médecins spécialistes du CH de Rambouillet dans les locaux de la MGEN à la Verrière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a mise en œuvre régionale  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268280"/>
            <a:ext cx="885672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lien avec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eurs de 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ssurance Mal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fessionnels de santé (URPS, ordres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relations ARS/Ministè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rrespondant régional ARS : Pierre Ouanhnon, Directeur Adjoint de la Direction de l’Offre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changes réguliers de suivi de mise en œuvre avec le Minist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es premiers travaux : la feuille de route AR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1267920"/>
            <a:ext cx="8856720" cy="4681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tat des lieux pour définir le T0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inventori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déjà mises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jets avec aboutissement concret dans les 6 m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régionales qui ne sont pas rattachées à une des mesures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’attente de nouveaux textes réglementaires qui favoriseront la mise en œuvre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aboration d’un tableau de suivi des actions à partir d’indicateurs préalablement sélection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place des différents comit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pilotage ARS (1 par mo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suivi partenarial du plan (3  réunions prévues en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lèche droite 1"/>
          <p:cNvSpPr/>
          <p:nvPr/>
        </p:nvSpPr>
        <p:spPr>
          <a:xfrm>
            <a:off x="971640" y="486900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0" name="Flèche droite 3"/>
          <p:cNvSpPr/>
          <p:nvPr/>
        </p:nvSpPr>
        <p:spPr>
          <a:xfrm>
            <a:off x="625320" y="2987640"/>
            <a:ext cx="720720" cy="297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560" y="3141720"/>
            <a:ext cx="910908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949320"/>
                <a:tab algn="l" pos="1138320"/>
                <a:tab algn="l" pos="523080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6d9f00"/>
                </a:solidFill>
                <a:latin typeface="Arial"/>
              </a:rPr>
              <a:t>Mise en oeuvre du plan national d’accès aux soins </a:t>
            </a:r>
            <a:br>
              <a:rPr sz="3200"/>
            </a:br>
            <a:r>
              <a:rPr b="1" lang="en-US" sz="3400" spc="-1" strike="noStrike">
                <a:solidFill>
                  <a:srgbClr val="6d9f00"/>
                </a:solidFill>
                <a:latin typeface="Arial"/>
              </a:rPr>
              <a:t>  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Conseil territorial de santé des YVELINES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3 juillet 2018</a:t>
            </a:r>
            <a:br>
              <a:rPr sz="2400"/>
            </a:b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334" name="Image 1" descr="Capture d’écran"/>
          <p:cNvPicPr/>
          <p:nvPr/>
        </p:nvPicPr>
        <p:blipFill>
          <a:blip r:embed="rId1"/>
          <a:stretch/>
        </p:blipFill>
        <p:spPr>
          <a:xfrm>
            <a:off x="2467080" y="623880"/>
            <a:ext cx="42098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Quelques liens pour aller plus lo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773000"/>
            <a:ext cx="8856720" cy="244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7000"/>
          </a:bodyPr>
          <a:p>
            <a:pPr marL="744120" indent="-7441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plan pour "renforcer l’accès territorial aux soi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2"/>
              </a:rPr>
              <a:t>https://www.ars.sante.fr/le-plan-pour-renforcer-lacces-territorial-aux-soi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compte-rendu du premier comité de pilotage national du plan du 6 févrie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5"/>
              </a:rPr>
              <a:t>http://</a:t>
            </a: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6"/>
              </a:rPr>
              <a:t>solidarites-sante.gouv.fr/systeme-de-sante-et-medico-social/acces-territorial-aux-soins/article/plan-pour-renforcer-l-acces-territorial-aux-soins-l-ensemble-des-organisatio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31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Plan national d’accès aux soins, après le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acte territoire santé 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ouveau plan, présenté le 13 octobre 2017, vient compléter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cte territoire sant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en œuvre depuis 2012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arantir un égal accès de tous les Français à des soins de qualité sur l’ensemble du territoir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intégrante de la Stratégie régional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a décliné dans le cadre de la mise en œuvre du Programme régional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priorités et 20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153280" cy="64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560" y="1125360"/>
            <a:ext cx="8713800" cy="454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nforcer l’offre de soins dans les territoires au service des patients : une présence médicale et soignante acc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ttre en œuvre la révolution numérique en santé pour abolir les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voriser une meilleure organisation des professions de santé pour assurer une présence soignante pérenne et contin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appuyer sur une nouvelle méthode : faire confiance aux acteurs des territoires pour construire des projets et inn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52280"/>
            <a:ext cx="8785080" cy="511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2000"/>
          </a:bodyPr>
          <a:p>
            <a:pPr marL="701640" indent="-7016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s mesures fortes et d’application rapide pour permettre d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érer du temps mé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fier l’offre en s’appuyant sur le développement du numérique en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des dynamiques locales dans les zones sous-denses avec les professionnels de santé et les é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et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mais à élar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velles qui nécessitent des évolutions régle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lèvent de responsabilités diverses : ARS, Assur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ladie, Ministère de la santé, enseignement supérieur et recherche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Renforcer l’offre de soins dans les territoires au service des patients : une présence médicale et soignante accr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9 ACTION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108360" y="1557360"/>
            <a:ext cx="856764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à l’installation et à l’exercice des médecins dans les zones en tens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 cumul emploi/retraite des médecins lib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nsultations avanc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des postes d’assistants partagés entre la ville et l’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er le contrat de médecin 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voriser les stages ambulatoires des professionnels de santé en  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s remplacements et l’exercice mixte (salarié/libé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opérations entre les professionnels de santé afin de rendre un meilleur service à la populat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ganiser la contribution des centres médicaux des arm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9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445"/>
                </a:solidFill>
                <a:latin typeface="Calibri"/>
              </a:rPr>
              <a:t>Aider à l’installation et à l’exercice des médecins dans les zones en tension</a:t>
            </a: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95280" y="2133360"/>
            <a:ext cx="4969080" cy="4103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Nombre de communes en ZIP / ZAC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’aide à l’installation des médecins (50 000€)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stabilisation et de coordination médecin (5 0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praticiens territoriaux de médecine générale et de médecine ambulatoires en cours (garantie de revenu brut mensuel de 6 9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84360" cy="47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voriser les stages ambulatoires des professionnels de santé en 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Toutes les maisons de santé pluriprofessionnelles accueillent des stagiaires et inter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Développer les coopérations entre les professionnel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2 MSP travaillent sur un projet de protocole ASALEE (Mantes la jolie / Les Mureau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Image 4" descr="Capture d’écran"/>
          <p:cNvPicPr/>
          <p:nvPr/>
        </p:nvPicPr>
        <p:blipFill>
          <a:blip r:embed="rId1"/>
          <a:stretch/>
        </p:blipFill>
        <p:spPr>
          <a:xfrm>
            <a:off x="2124000" y="3573360"/>
            <a:ext cx="3083040" cy="11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2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Mettre en œuvre la révolution numérique en santé pour abolir les distances</a:t>
            </a:r>
            <a:br>
              <a:rPr sz="28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3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928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crire la télémédecine dans le droit commun dès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émerger les territoires digi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DD78-GEN</cp:lastModifiedBy>
  <cp:lastPrinted>2018-04-27T12:40:28Z</cp:lastPrinted>
  <dcterms:modified xsi:type="dcterms:W3CDTF">2018-07-03T11:58:29Z</dcterms:modified>
  <cp:revision>366</cp:revision>
  <dc:subject/>
  <dc:title>Présentation PowerPoint</dc:title>
</cp:coreProperties>
</file>